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E9EA-4595-4C2E-9E8B-F3F610AB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5828-F959-4AF1-AAB6-B8B2559B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742E-A1E1-4E80-9B8A-3FFF6F60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09BD-AC26-4657-89FE-802FC589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F22A-2B04-4A95-8A31-DE87B791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F050-6188-4E3A-925E-16F569B4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5A6E-9722-4C5C-9ED3-E1A500CB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08E3-499B-425A-86B3-8290B4FC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1EDC-ED92-4C2B-8290-AA4DE9DA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83DF-4B0E-4896-8BCD-2FBEED07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ED1D-6FA1-4CF2-A336-0F316C1B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85F3-5402-4DDC-8B09-13716B0A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2710-80E2-4CD5-B1D7-C31028476B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209680"/>
            <a:ext cx="644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Non-differentia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isclassific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9880" y="3048120"/>
            <a:ext cx="1143000" cy="457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391160" cy="3337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62120" y="4114800"/>
            <a:ext cx="7391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2498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7391520" cy="121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14400" y="4419720"/>
            <a:ext cx="72388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01000" cy="3200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8001000" cy="685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09480" y="4572000"/>
            <a:ext cx="7772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1000" cy="3200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3886200"/>
            <a:ext cx="8001000" cy="533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143000" y="4572000"/>
            <a:ext cx="6781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0773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96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7696080" cy="2479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6960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2895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7696080" cy="533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6400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289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7696080" cy="533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371600" y="4419720"/>
            <a:ext cx="6019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69608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5800" y="2743200"/>
            <a:ext cx="7696080" cy="609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85800" y="3505320"/>
            <a:ext cx="7696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17:09:13Z</dcterms:modified>
  <cp:revision>215</cp:revision>
  <dc:subject/>
  <dc:title>Slide 1</dc:title>
</cp:coreProperties>
</file>